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5FD-51D6-44B2-91A5-0D92A381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227-DC9F-4FBE-8492-FA97F2C0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F41-B55A-42D4-A817-3441220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89E-13E4-4FD8-94A4-1D7F8577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57F-282D-4690-AC16-0FA968AE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F6E5-76FA-4D95-9D89-499B2B13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8E96-635B-4854-9FEF-FA04CB6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B51-CAF4-46D5-8AE1-E40DEB28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4775-F500-4960-AABD-2D934601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7F1C-0466-4F94-AE49-AF346136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0FF-ED94-44A7-8360-46F93C6D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BDA-B9CE-430F-9DDC-1FD0886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B61B-2FF8-45AB-A5C8-7071E6D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6352-C1DD-4965-8CA3-F7B68EB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C35-3F31-4676-B549-DC8299E1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47C5-018A-4213-81AE-FCF04A28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6485-E36A-4AD1-90FA-B4E56C04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6623-6869-490D-A654-09AB282D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D880-2337-4036-9A66-355F28E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C769-87C9-4294-9552-E0219DA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09D7-831A-4085-B816-85639C0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7C79-EF63-4254-ADED-071E6B35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3E7-4FFC-4CA8-BD3D-2F8F0C5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23AF-84C5-420F-9B14-176432E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5A11-71DE-40E5-8E23-025A982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2A2C-3245-4C34-AD26-CEB701E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6309-B7FB-410B-85B0-11B01A5F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F30C-6892-4407-B72F-6A6DE37A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629D-1681-4AEC-B0AE-A9CEFDA6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07B4-9C01-4FE6-BBB3-04B08260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EE5EE-E849-4026-BBCC-6B6F9E23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916AF-7413-425A-AC30-784F180F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22D5-698F-4E48-A890-19AEEDBB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9B3-F991-4F8C-BB73-2E96ACB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1915-E6C6-4DFA-AE92-824905E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50FE-FF81-49A2-9824-119FDF8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1E32-94FA-42A1-80D5-5E39492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1AEA-3018-4682-B35B-0F0A0BE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1876-9837-4EA4-83FF-11FD608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1B86-4A2D-45C5-BBA9-7067A2A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EC6E-7566-4AED-A63F-3558BAF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9447-4037-4602-89CC-3CEAD1E8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5229-329F-4E5F-BA6F-11E3F3BB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1AD6-C981-4E48-8D13-F75F3920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CA7-4EDB-4500-B795-0125F7CD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4462-5D7E-4F7C-8F0D-D3C0604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C8BF-BA51-4731-883F-80A81269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71AF-39FC-41BC-BC38-7882CA7D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F77B-3324-4EAF-85E1-A53F308B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700B-5DDE-4B9C-B2D2-184BC2CB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E509A-D8DC-48C1-9BBF-5F5A784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EFC71-EFB1-484D-9ECD-20633A6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B5FE-0B1B-4B51-AA7F-69E8048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4264-A53A-4292-92C0-65C391C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FD69-D525-48FA-BF54-CE36E52A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090-2432-4A83-AB9F-B3E2C49A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CCF4-3129-454D-BD0E-8055D3A0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8E763-B130-497F-B161-CF96B7DF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78D1-54A0-4FE2-9AC8-AEABDAE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6889-8C4C-477F-A455-BACB3F2C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E176-3EDC-4FD6-B72F-51E78941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3C46-FA24-4139-8485-231170E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09A75-5CF7-47EB-BB7D-0957F2D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A5DD-67A0-4A8E-8AF4-A23ADA9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5509E-CB2A-40D8-B884-E8C8DBF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AEA8-0099-45B2-8E6B-535473A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7F5-22D4-4FED-B31D-5D7BEF0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C2FF-2070-477F-855A-27D1A164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D593-9FDF-4462-B326-671C0EA9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8136-C2D0-48A3-9563-4EC850E5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1BD4E-5F9B-4CB6-9FFE-E18BA95C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497D-1DE3-4E1C-9C39-EC55B60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CB15-CD9C-4B71-90CD-9899523E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7747-B301-4558-B74F-D39737B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D5094-00E2-4C42-B75B-C08640B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D855A-2BFA-480B-BCB2-C14F0416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C1D1-332B-4A27-9FBF-8B2CAC0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098-3761-4B08-9B8E-B28E7C7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46DF-6E10-4CC4-A691-F7D4775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871BA-C9B4-4CDF-B629-E622C32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48068-A18A-4330-A7A4-2F995F49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CE5B7-6055-44AA-8E23-49F0FB51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5B96-0598-48D6-ABE8-1AFE53DF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F65-482F-49EB-8636-5BD616C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BF1-2FE1-4C41-ADAC-75E02FB48B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7E9D-1E8A-4C43-B395-2E301777AB0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4F4-20B7-4209-8E47-D5E7DE99A3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7FA-FCFC-4FF7-9DD2-F729509CFE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3A11-4F28-4054-BE06-88EECC6209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BCB-6C13-4664-8DEF-CAD2C96E135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41F-9B54-4B5A-8188-DAF14C88E06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8169480" cy="204948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2" descr="mini1.jpg"/>
          <p:cNvPicPr/>
          <p:nvPr/>
        </p:nvPicPr>
        <p:blipFill>
          <a:blip r:embed="rId2"/>
          <a:stretch/>
        </p:blipFill>
        <p:spPr>
          <a:xfrm>
            <a:off x="2000160" y="2643120"/>
            <a:ext cx="4672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Когда меня услышит мир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Радиоприемник без питания!!! Реально это или нет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Как распространяются радиоволны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49e"/>
                </a:solidFill>
                <a:latin typeface="Arial"/>
              </a:rPr>
              <a:t>Расширить знания у учащихся в области радиоэлектроники, ориентировать на профессии, связанные с радиоэлектроникой, и облегчить подготовку к поступлению в технические ВУЗы. Курс «Основы радиоэлектроники» помогает углубить и расширить знания по теме «Электродинамика и радиофизика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93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214200" y="1213920"/>
            <a:ext cx="52149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сширение практической части учебной программы по «Электродинамике» и формирование экспериментальных умений учащихся при обучении физик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звитие творческой самостоятельности учащихс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Усиление связи обучения с жизнь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Рисунок 3" descr="030_1.jpg"/>
          <p:cNvPicPr/>
          <p:nvPr/>
        </p:nvPicPr>
        <p:blipFill>
          <a:blip r:embed="rId2"/>
          <a:stretch/>
        </p:blipFill>
        <p:spPr>
          <a:xfrm>
            <a:off x="5715000" y="1714680"/>
            <a:ext cx="31100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Что такое Радиовол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устроены различные радиодетал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сконструировать простейший радиоприемник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8491320" cy="1852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50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Физика радиодеталей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диоволн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Конструирование простейших радиоприемник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Перспективы развития радиотехники и радиоэлектроник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Рисунок 4" descr="attachment126.jpeg"/>
          <p:cNvPicPr/>
          <p:nvPr/>
        </p:nvPicPr>
        <p:blipFill>
          <a:blip r:embed="rId2"/>
          <a:stretch/>
        </p:blipFill>
        <p:spPr>
          <a:xfrm>
            <a:off x="5000760" y="2428920"/>
            <a:ext cx="38005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4086</cp:lastModifiedBy>
  <dcterms:modified xsi:type="dcterms:W3CDTF">2010-06-05T05:08:53Z</dcterms:modified>
  <cp:revision>3</cp:revision>
  <dc:subject/>
  <dc:title>ОСНОВЫ РАДИОЭЛЕКТРОНИКИ </dc:title>
</cp:coreProperties>
</file>